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8819-B67F-4ABF-8E4F-0A49AD75CA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8455-0950-445B-B4AE-B416FDDD89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EA5C-0BB7-48DA-99A6-C86546880B5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1AC7-9ADF-445E-9622-047AD2D21F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39F3-E948-492E-AC81-E75DF5DD64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378A-7B96-4CF0-85A6-9CAA790350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76CB-A59A-4DA3-BF9A-EE442E4B88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8914-B2DE-4D42-B98A-BC927BA9A5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F17D-1B80-468B-A4CB-271FE8807E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115A-C25B-40B6-8CFF-7BEDE105CE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CC7D-75CA-4988-BD66-9589A45D03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7313-DC94-412F-9B11-A1C8AFACC4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4862-4E7E-493F-B4A4-C44583C44D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36DA-BE35-425B-8616-AA7345FB36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0ECA-94EF-46F8-9186-6D02064844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DCF8-AF1D-42F5-8E13-17FE955B55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207D2-D6EC-4D2F-A97C-E3361DDA7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8BE6-6074-4932-8090-86882585A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D9AC1-5C45-40EF-8430-560E83D2C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3D8E4-DD05-48A1-85FE-C02837D71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B50D4-26DD-416F-A3A5-B2E063CA4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F417C-3CFA-45B7-83C0-E98704751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39F53-D982-4A8C-801A-CF6984AAC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F5868-1B1E-4AB5-8B7A-53228237E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FFD16-E051-4EA9-9065-2AE7E77C4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089B9-7831-4726-978A-35893F2E4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73B0E-8FD6-4051-AB8E-85ADCEBF9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10247-CBAA-46AD-88AA-FA326773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E18BF-26E9-400E-A3AF-0F2232083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A22C2-BC23-47FA-A195-2DC662394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83E6B-CF7F-4920-93C1-E039E3A21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C8D10-0E0A-4A97-AC75-EB7D21EC3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233FB-39F0-4893-BD3C-CC2FEF117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69C411-E62E-4199-9AB5-E524DFBD7C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20D5E-0B4E-4F43-9B72-B9CFF77CD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FB1120-35A3-4704-BA10-AFEFC775F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BB0C61-2EEC-4FF1-9F97-6AB3B3453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D9D95-A812-45FD-A102-99FCB2032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CDA7E-9A6B-4F11-94C4-0F621BBEE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C26E5-F306-44BB-B1AB-ABFAD39A27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ADAC2-5A99-4E4A-8408-EEF790ABC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B687C-8C1D-4D5D-BDED-73966F5D1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69122-11FC-4651-BA33-98BE9C38C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F936B-4293-4D7A-8383-E10DB52AD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D1E78-8C25-4272-A228-6AFCA9EC8B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CBEBE9-21DB-4FF7-9898-65ED5D3B8D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714F3-3593-42A9-B587-72FE8D15C3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0EE31-B48C-470B-BC75-A30C5B1A3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D988DC-B6E6-4141-9147-9F1B306B2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AA5C-0396-47F1-910F-54842DC58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689DB-07C8-4718-B242-FF9E5EAB8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DA32F-001D-4F4B-88AB-F3A5D90AE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7B59C-3D69-4ABB-8019-425ADF1D1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2ADEB-B92C-4D83-8585-D1A1CAA4A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F5645-E635-4E28-869F-BB60404F9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D2D8E-8B1D-45AA-8F6B-DA6CD7B17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397533-2622-413B-807C-E057AC917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68175-586E-4FF2-A295-F4D087E9E3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0A323-EB2E-4E7E-AE70-56A36E496A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384EBA-2337-4A09-891C-F995CE311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54289-2E8C-483D-B351-9ED52440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16C811-D14D-413F-AC60-87596F072E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6EB450-3F17-4ED8-AE2C-A55B1D639B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60F6D-15E0-4096-BC8B-7D03D1D6A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ACA01-7A86-482E-AA10-68C32442C4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8B391-9E24-4A38-87E1-808505E8E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35A73-9011-413C-89AB-0FD7B96118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B618B-5F28-4580-AB21-62C9ABCF3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DE962-09FD-4B68-86A2-5AE3B2E2E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981E0-617F-4691-B3B6-E09E9B968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073DB5-9DC3-4AC4-B23F-D083B394BD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68100-9898-43FF-A084-566FD15EA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EDD64C-3313-4C0F-ABFE-D74505D6A9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A46962-7564-496B-9232-67438D202E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E8183-F10B-4C3E-8288-1A1399F32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3B77F-C216-4D4B-A923-AA338E9565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DFB3DE-F5F5-47B8-9F00-C82937A32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D4840-A1E5-4FF8-8CA0-D51678F19E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B95C1-F431-463F-830C-0BB0A67E2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92606-9467-4915-AACE-30A7EDB67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F6271-4BE6-481E-8D85-D3C402181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ABD46-28A7-47A4-BE31-7C1CA25EF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07A6A-887A-4720-945E-65774F31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598C5-EA91-4C4E-B2B6-7D9BA7C9C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35ACF9-53CD-4A15-A574-810BDC7778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A0CF19-68BE-4D7B-8426-3D1E9A7233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D4B173-AA3C-4775-9BC1-CCA0931A1F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34D39F-B48E-450E-952A-4A624FBA7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C206A9-270B-4B94-937D-2CC3DF9C8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F2A06-B7FC-4F31-BE68-D76155AC4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B0BA7-6797-424E-95A5-DD590A6A54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32D7FF-25C9-4A95-A9A7-BDAC6D701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E32CF-9412-425F-9C6D-B7EA32553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072C6-E055-4A2B-A124-494224E6D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5A2E1-9B16-4EF0-87A4-7529D7FE2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F2902-6701-4AEA-B8C7-D3D13DD54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2F2654-81E0-46E4-9B07-CF8BAF9B4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E737A1-2EE5-4ABA-B17D-5E42BB107A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511558-92CF-4E56-B1D2-33B8151AD7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32D4-0C4F-45FA-8E8A-2A3C0A106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43F3-65A6-4467-B730-649BBE63E3D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6869-7FDF-4408-9CB3-AF35DD42CB7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E30B-24A5-44D9-B496-B837A8DE93C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CFF4-7D5C-4449-A108-9898DB0A5F4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B87A-FFF8-4057-84F2-5E04F625120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AFF2-02ED-4AD3-A2BB-A9DA8D1D6CD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02C0-7CD6-4DD4-8A88-ACFFE6EFFFE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8"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3-30T19:41:41Z</dcterms:modified>
  <cp:revision>23</cp:revision>
  <dc:subject/>
  <dc:title>UML Use Cases</dc:title>
</cp:coreProperties>
</file>